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08D-82C6-44F3-BE91-C088C681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D35-2712-49A3-B537-CC3E98D9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5F9-75BF-480C-BD31-ABEB063F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21F-17B5-4CC0-955F-D08DD99C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0257-7E68-4D8D-B934-F0206ED3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8829-94B9-4A00-BB99-073482AF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8833-ABDF-47BF-A8D5-A0E181B1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6829-DFA6-47E6-8499-8642865C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8DDA-08D1-45FD-AF01-929E6551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D623-7A38-4F70-9F8B-23041ED1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C526-2783-424C-B97D-7DB6468C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B8E-CD12-4C84-93E5-CB1C16EA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5863-E661-42E3-98EB-7CC25B55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7B2B-E075-41CE-BA73-98D899D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F279-1403-49EE-9BDD-BE8075F4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DCB8-CFF1-47F8-A79D-AD6FB4A8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1DDF-1207-4E86-9E4D-8DBE56ED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C89E-8FE4-4E48-96D7-662D953D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8B87-24A2-49DB-9F7D-C518DD1C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46FB-AA23-41EA-9620-6325DA43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7400-0FBC-4FA2-BB43-68A3D0E6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8324-2B6C-4EE9-85BA-22FAADE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077-24AC-4763-AC16-80AC2E5F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B74AE-214B-40C0-94D2-911FFD5B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AA7A-BBEF-42FE-A16D-4CDFB0C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023A-0414-4A53-ABAF-75F5FD4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D5E6-D158-44E9-A5DF-11917C8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B4B7-8C5B-4189-A2BD-1A558585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4D0A-9393-4DD4-9877-1A71AFAC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3556-A99A-4CF0-8BE5-CCF530EA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BD39-4C17-4AA6-BF2E-59C7F50F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630CC-4F22-41BD-989C-4DE62A59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D8BAE-9370-4634-9ABA-7FEFD5B0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2CB-FB15-4138-95C6-327A0449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E5FE-F3BF-4205-B701-4CB6C11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3917-C313-4D88-A36F-8E61920D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7552-E00C-494D-AC8D-21B27175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ACF6-D0A6-4CC9-A90B-8CCC2CF1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F216-8461-40E5-BDAA-F3508D2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292F-ACDE-4C7D-A33B-71BA12BA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F7291-3925-4A4F-9ACC-3B47CE98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BBE4C-32FD-4FB5-A59F-AD95DAA5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8CEC-D6B0-4FA4-BFB7-6AD8E6F9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A9B-15C0-4243-80A9-0206AD19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21A-3296-48FD-99FC-A8690D4D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D98-C67F-4BE8-AFAB-A6CD408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8C8-760F-4AA0-9FFA-DFD60A54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F9F-8DF2-47C7-B6F9-414A6E4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A49AA-04DA-4E36-B291-34028A971E5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205A3-3B77-4529-8449-7860EC7CEFA6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70D88-6866-44C1-B365-D3DFC397394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815FB-844F-4A19-8EE7-A84EEAD84ED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ebebeb"/>
                </a:solidFill>
                <a:latin typeface="Century Gothic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900" spc="-1" strike="noStrike">
                <a:solidFill>
                  <a:srgbClr val="ebebeb"/>
                </a:solidFill>
                <a:latin typeface="Century Gothic"/>
              </a:rPr>
              <a:t>2) 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PRECIZAREA NIVELURILOR DIN CECRL LA INTRAREA ELEVILOR ÎN CICLUL DE ÎNVĂȚĂMÂNT GIMNAZIAL, PRECUM ȘI A NIVELURILOR AȘTEPTATE </a:t>
            </a:r>
            <a:r>
              <a:rPr b="0" lang="ro-RO" sz="2900" spc="-1" strike="noStrike">
                <a:solidFill>
                  <a:srgbClr val="ebebeb"/>
                </a:solidFill>
                <a:latin typeface="Century Gothic"/>
              </a:rPr>
              <a:t>LA FINALUL CICLULUI GIMNAZIAL (a)</a:t>
            </a:r>
            <a:br>
              <a:rPr sz="2900"/>
            </a:br>
            <a:br>
              <a:rPr sz="2900"/>
            </a:br>
            <a:r>
              <a:rPr b="0" lang="ro-RO" sz="2900" spc="-1" strike="noStrike">
                <a:solidFill>
                  <a:srgbClr val="ebebeb"/>
                </a:solidFill>
                <a:latin typeface="Century Gothic"/>
              </a:rPr>
              <a:t>- limbile engleză,franceză, spaniolă, italiană - 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11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11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1166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ebebeb"/>
                </a:solidFill>
                <a:latin typeface="Century Gothic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400"/>
            </a:b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- limbile germană, rusă -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3)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 DETALIEREA FIEC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Ă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REI 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COMPETENȚ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E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 GENE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RALE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 ÎN COMPETENȚE SPECIFICE, ULTIMA COMPETENȚĂ SPECIFICĂ FIIND DE NATURĂ SOCIO-CULTURALĂ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1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ffffff"/>
                </a:solidFill>
                <a:latin typeface="Century Gothic"/>
              </a:rPr>
              <a:t>9) INDICAREA RESURSELOR ON LINE UTILE PARCURGERII PROGRAME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anuela Delia</cp:lastModifiedBy>
  <dcterms:modified xsi:type="dcterms:W3CDTF">2018-08-29T06:56:24Z</dcterms:modified>
  <cp:revision>23</cp:revision>
  <dc:subject/>
  <dc:title>Elemente de noutate ale programei școlare pentru disciplina</dc:title>
</cp:coreProperties>
</file>